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C85-68D1-49FF-A5A7-1AC1D24F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6C2-AAC7-4359-92F0-EE312B7B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B81-F49D-48A1-B63B-D41905E8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ADD-12F6-4225-B8D0-7F166408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730-CBA1-4779-98AC-0B56992A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CD4-3B3F-47C9-8850-24BD6E29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D40-F100-49B6-AA39-AAE628A4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931-00D8-405B-A686-2004EA55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47A-5B81-4981-9123-0DD46340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E0A-0DCA-44F7-9341-D58B8849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F4C-4A8A-4B6A-BC10-C7AF6D9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392-1495-40D1-BF90-036FC5B2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94ED-8659-493B-8B49-59211DEA6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-Seek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r C Sha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HC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ago, IL,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dder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following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 2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[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sign(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[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.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*[sign(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*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[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dde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X1 = X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X2 = X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F1 = f(X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F2= f(H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F1 * F2 &gt; 0 Then ex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Iter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Root = unlikely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X3 = (X1 + X2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F3  = f(X3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S = Sqrt(F3^2 – F1 * F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 is 0 Then return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X4 =  X3 + (X3 – X2) * (sign(F2 – F1) *  F3 / 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bs(X4 – Root) &lt; Tolerance Then return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Root = X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F4 = f(X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dder’s Algorithm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|F4| &lt;= small number Then return R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3 * F4 &lt; 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 = 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 = 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 = 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 = F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If F1 * F4 &lt; 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 = 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 =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If F2 * F4 &lt; 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 = 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 =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1 to 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|X1-X2| &lt; Tolerance Or  Iter &gt; Max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nt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ic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erivatives calcu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following eq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A + B +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[y – f(a)][y – f(b)]c / ([f(c) - f(a)][f(c) – f(b)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nt’s Method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[y – f(b)][y – f(c)]a / ([f(a) - f(b)][f(a) – f(c)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[y – f(c)][y – f(a)] b / ([f(b) - f(c)][f(b) – f(a)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y = 0 gives the following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b + P /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f(b)/f(c), S = f(b)/f(a), T = f(a)/f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S [T(R – T)(c – b) – (1 – R)(b – a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(T-1)(R-1)(S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nt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, b, MaxIter, and Tole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 = f(a) and fb = f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c = b and fc = 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fa * fb &gt; 0 Then flag error and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r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fb * fc &gt; 0 then c=a, fc=fa, d=b-a and e=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|fc| &lt; |fb| Then a=b, b=c, c=a, fa=fb, fb=fc, and fc=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1 = 2 * EPSILON * |b| + Tolerance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 = (c - b) 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|xm| &lt;= tol1 Or fb is 0 Then Retur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ment 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|e| &gt;= tol1 And |fa| &gt; |fb|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fb / 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 = c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 2 * xm *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=1 -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nt’s Algorithm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 = fa / f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fb / f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s* (2*xm*q*(q-r)-(b-a)*(r-1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 = (q-1)*(r-1)*(s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p &gt; 0 Then q = -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|p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1 = 3*xm*q-|tol1*q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2= |e*q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(2*p &lt; min(min1, min2)) T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=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=p/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=x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=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=x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=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nt’s Algorithm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=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=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|d| &gt; tol1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= b +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= b + SIGN(tol1, x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b =f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til Iter &gt; Max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i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SIGN(a,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b &gt;= 0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 &gt;= 0 Then return a Else return 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 &gt;= 0 Then return -a Else retur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a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to converge in most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x = x – f(x) / f’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alculation of first 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aylor’s 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lnerable to low slopes near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lnerable to oscillating values due to parallel asymptotic functio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Deriv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hard-coded (makes code very specific for a class of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obtained analytically on the fly in calculators that perform symbolic der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’(x) = [f(x + h) – f(x)] /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h = 0.01 * (1 + |x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ng selected bas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tips and t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SOLVE feature in various HP 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al View of Newton’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Slope Problem At/Near Saddl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324840" cy="4743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33720" y="41148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2096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Slope Problem At/Near Min/M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05120" y="38862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8288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cillating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391160" cy="4743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6520" y="46483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19051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666880" y="4648320"/>
            <a:ext cx="2895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562720" y="243792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057040" y="2438280"/>
            <a:ext cx="3505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hm for Basic Newton’s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initial guess x and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 or set value to MaxIt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Diverge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IterCount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Iter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erCount &gt; MaxIterations Then Set Diverge flag and exit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0.01 * [1 + |x|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 = h * f(x) / [f(x + h) – f(x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x – d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|diff| &lt; Tole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root as x and Diverge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ing Number of Function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alculating derivative(s)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ant 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Moivre (also known as Whittaker) suggestion of using fixed value for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De Moivre method that evaluates new slop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cheme is to reuse the same slope after few it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nt Approx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initial guess x and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or set value to MaxIt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Diverg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terCoun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xLast as x + 0.01 * [1 + abs(x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fxLast = f(xL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Iter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rCount &gt; MaxIterations Then Set Diverge flag and exit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x 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 = fx * (x – xLast) / (fxLast – f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xLast = x and fxLast = 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x – d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|diff| &lt; Tole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oot as x and Diverg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ied De Moivr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initial guess x and Tole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or set value to MaxIt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ear Diverge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CalcSlope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ter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ment Iter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IterCount &gt; MaxIterations Then Set Diverge flag and exit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CalcSlope flag is set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 = 0.01 * [1 + |x|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pe = [f(x+h) – f(x)] /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ggle CalcSlope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 = f(x) /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= x – 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til |diff| &lt; Toler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root as x and Diverge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ified De Moivre Meth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loop counter vers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initial guess x and Tole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or set value to MaxIterations and MaxSlopeE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ear Diverge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ter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ment Iter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IterCount &gt; MaxIterations Then Set Diverge flag and exit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IterCount &lt;=  MaxSlopeEvals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 = 0.01 * [1 + |x|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pe = [f(x+h) – f(x)] /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 = f(x) /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= x – 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til |diff| &lt; Toler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root as x and Diverge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Number of Function Calls for exp(x)-3*x^2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819520"/>
          <a:ext cx="8229600" cy="2311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905120"/>
                <a:gridCol w="22096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New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s/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ant Appro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s/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De Moiv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s/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and 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/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/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/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and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/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/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/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 (and 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/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/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/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sec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00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8195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47920"/>
            <a:ext cx="5715000" cy="2133360"/>
          </a:xfrm>
          <a:custGeom>
            <a:avLst/>
            <a:gdLst/>
            <a:ahLst/>
            <a:rect l="l" t="t" r="r" b="b"/>
            <a:pathLst>
              <a:path w="3600" h="1344">
                <a:moveTo>
                  <a:pt x="0" y="1344"/>
                </a:moveTo>
                <a:cubicBezTo>
                  <a:pt x="564" y="1336"/>
                  <a:pt x="1128" y="1328"/>
                  <a:pt x="1728" y="1104"/>
                </a:cubicBezTo>
                <a:cubicBezTo>
                  <a:pt x="2328" y="880"/>
                  <a:pt x="2964" y="440"/>
                  <a:pt x="360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629400" y="1599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10480" y="2333520"/>
            <a:ext cx="45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2514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41972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root-bracket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middle of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ards either half by comparing function sign at median with that at either interval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 to find 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90440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943600" y="1295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733920" y="32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Number of Function Calls for exp(x)-3*x^2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2819520"/>
          <a:ext cx="8229600" cy="2311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905120"/>
                <a:gridCol w="22096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New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s/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der Meth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s/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s/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and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/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/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/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and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/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/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/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(and 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/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/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/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mond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third order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first and second deriv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convergence rate balance with cost of calculating second 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Halley’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2 f(x)f’(x)/{2 [f’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(x) f’’(x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mond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initial guess x and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or set value to MaxIt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Diverg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terCoun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Iter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rCount &gt; MaxIterations Then Set Diverge flag and exit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0.01 * [1 + |x|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0 = f(x), fp = f(x+h), and fm = f(x-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 = (fp – fm) / (2h), and D2 = (fp – 2f0 + fm) / (h*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 = 2 f0 * D1/(2*D1^2 – f0*D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x – d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|diff| &lt; Tole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oot as x and Diverg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hold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ast convergen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first, second, and third function derivativ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derivative approximation methods results in five function calls per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to other methods, this method has fewer iterations but a high number of function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Householder iteration 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X – f(X) [f’(X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(X) f’’(X) / 2] / [f’(X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(X) f’(X) f’’(X) + f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 f(X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Househol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initial guess x and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or set value to MaxIt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Diverg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terCoun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Iter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erCount &gt; MaxIterations Then Set Diverge flag and exit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0.01 * [1 + |x|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0 = f(x), fp1 = f(x+h), fp2 = f(x+2h), fm1 = f(x-h), and fm2 = f(x-2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 = (fp – fm) / (2h), and D2 = (fp – 2f0 + fm) / (h*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3 =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fp2 - 2 * fp1 + 2 * fm1 - fm2) / 2 / h ^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 = f0 * (D1^2 – f0 * D2 / 2)/(D1^3 – f0 * D1 * D2 + D3 * f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^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x – d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|diff| &lt; Tole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oot as x and Diverg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Number of Function Calls for exp(x)-3*x^2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2252520"/>
          <a:ext cx="8229600" cy="4388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905120"/>
                <a:gridCol w="22096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Gu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New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s / 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m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s / 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ho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s / 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/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/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/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/ 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/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/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/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/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/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taining Multiple 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seudo-deflation and a function wrapper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no root has been found, g(x) = 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first root is found, g(x) = f(x) / </a:t>
            </a:r>
            <a:r>
              <a:rPr b="1" lang="en-US" sz="24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x – root(i)) for i = 1,…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t iteration counter after each located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new guess for next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 ends either by reaching maximum number of roots ot a maximum run-time error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to reapply basic Newton algorithm (or any other basic algorithm)  on each root to combat possible round-of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for Multiple 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guess for root x and Tole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N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ize array Roo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a value to MaxI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r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1 to Iter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IterCount &gt; MaxIterations go to step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 = 0.01 * (1 + |x|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an error trap for the next step and If error occurs go to step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 = h * g(x) / (g(x + h) – g(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= x – 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|diff| &gt; Tolerance Then resume at step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ment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(N)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new value for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 to step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N roots in array Roo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hm for Multiple Root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g(x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 &gt; 1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 = 1 to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|x – Root(I)| &gt; Epsilon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= g / (x – Root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 Root Seek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s low slop values at guess for 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Oscillating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sec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1160" y="1447920"/>
            <a:ext cx="572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[a, b] such that f(a) * f(b)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(a) * f(b) &gt; 0 then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 = (a + b)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(m) * f(a) &gt; 0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|a – b| &lt; Tolerance Or |f(m)| &lt; Fx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is (a+b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for Robust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Xlow and Xhi, MaxIter, OscCountMax, MaxErrCou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r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c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tDiff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ergeFlag =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X in range [Xlow, Xhi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ment 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Iter &gt; MaxIter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ergeFlag =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 = 0.01 * (1 + |X|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f0 = f(X) and f1 = f(X+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e S = (f1 – f0) /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|S| &lt; S_Min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sign(S) * 2 * S_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 = f0 /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= X – 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hm for Robust Method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tDiff = 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 = f0 /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Diff * LastDiff &lt; 0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ment Os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scCount &gt; OscCountMax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guesses with opposing sign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earch fails Then exit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Bisection to calculate a good value for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tDiff = 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tDiff = 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= X - 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 While |Diff| &gt; Tolerance And NumberOfErrorsInFxEvals &lt; MaxErrC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is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hm for Robust Method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about run-tim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a new random guess in range [Xlow, Xh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number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 after a maximum number of errors has been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folders RobustVb and RobustCs for .NET projects that contain the source code for Visual BASIC .Net and C# that implement the algorithm and add features for multipl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sting y = e^x - 3 * x ^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ter lower limit for root guesses: 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ter upper limit for root guesses: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ot(1) = -0.458962267538098 and required 6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ot(2) = 0.91000757253255 and required 7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ot(3) = 3.73307906996909 and required 7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sting y = x * (x - 3) * (x +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ter lower limit for root guesses: 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ter upper limit for root guesses: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ot(1) = -5.00000000012556 and required 7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ot(2) = 1E-10 and required 1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ot(3) = 3.00000000000672 and required 2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sting y = 1 + .1 * x + 2 * tanh(x -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ter guess for root: 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ter upper limit for root guesses: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ot(1) = 3.20660133337831 and required 18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ess Enter to end the program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ngle best method to find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method is 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der’s method is a very good root-bracket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of root bracketing with Newton and/or interpola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-seeking is an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le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ALGORITHM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s the root like Bi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lute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(a) and f(b) to determine where to select refined 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is closer, than the middle point, to either point 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n offset coefficient (0.25 to 0.3) to select the new guess. An offset value of 0.5 yields the classical Bis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il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828800"/>
            <a:ext cx="70866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α = 0.25 (or can be 0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(a) * f(b) &gt; 0 then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|f(a)| &lt; |f(b)|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a + α * (b –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a + (1 – α) * (b –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(m) * f(a) &gt; 0 Then a = m Else b =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|a – b| &lt; tolerance Or |f(m)| &lt; Fx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is (a + b) /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Bisection &amp; Quarti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(x) = 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and tolerance = 1E-7. Function has roots near -0.45, 0.91, and 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2590920"/>
          <a:ext cx="7315200" cy="257328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2209680"/>
                <a:gridCol w="259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ection 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ile fx c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se Posi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-bracket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function value as weights to calculate the next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convergence of last two most recent guesses and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urrent root-bracketing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al will not shrink as much as Bi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se Posi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Flo = f(X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Fhi= f(H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LastX = X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Flo * Fhi &gt; 0 Then 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Xm = (Fhi * Xlo – Flo * Xhi) / (Fhi – Fl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Fm = f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Fm * Flo &gt; 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Xlo = X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Flo = 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Diff = Xm – Las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LastX = X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se If Fm * Flo &lt; 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Xhi = X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Fhi = 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Diff = Xm – Las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LastX = X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se If Fm = 0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t Diff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til Abs(Diff) &lt; Tole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 root X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05:18:14Z</dcterms:created>
  <dc:creator>Administrator</dc:creator>
  <dc:description/>
  <dc:language>en-US</dc:language>
  <cp:lastModifiedBy>Joe Shmoe</cp:lastModifiedBy>
  <dcterms:modified xsi:type="dcterms:W3CDTF">2005-12-21T19:52:22Z</dcterms:modified>
  <cp:revision>36</cp:revision>
  <dc:subject/>
  <dc:title>Root-Seeking Methods</dc:title>
</cp:coreProperties>
</file>