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1BF-09AB-404D-97AE-4004468A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925-FAB1-421B-9C01-D3114FDF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DA2-73DB-4D9C-ABB1-1C0A2682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E71-8CFF-4F2B-96B1-4CA6947E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D1B-DE2C-4E2A-8B1D-04FEEA2E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BF5-C80F-40BA-9093-CEA27602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E4F-EC2F-4761-A2B8-CC4DEB8D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906-B929-418D-90A7-C57AAD06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65F-644D-4263-9B77-2BEDE25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16A-87AA-4107-BCDD-9CEA0B6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333-3FFB-478E-8474-C2C1D315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261-498A-4F04-8980-36AB650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F09D-FF11-4C1C-B59D-F21C79F74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in HP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ir C Sham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HC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ago, IL,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1 /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91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1 /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447920"/>
            <a:ext cx="76964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n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quickly an algorithm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ors iterate extensively until reaching numerical lim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 use maximum iterations to stop early, because function keeps decreasing as X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(X-2)^2+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7732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(X-2)^2+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447920"/>
            <a:ext cx="76964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no root and a minimum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if SOLVER comments on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28S, HP-42S, and graphics calculators comment on minimum value at 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HP calculators simply state that solution was not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(X-2)^2-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(X-2)^2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447920"/>
            <a:ext cx="76964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two zeros and minimum value in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which roors ar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P calculators find root of 3 at initial guesses (2,4)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results between roots of 1 and 3 for initial guesses (0,2)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-200 found ONLY root at 1 for all four sets of gues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X^2 – 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302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X^2 –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447920"/>
            <a:ext cx="7696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two zeros and a minimum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quickly an algorithm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alculators found both roots of -2 and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calculators give different sets of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1/X –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99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1/X –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447920"/>
            <a:ext cx="7696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a zero and asympt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quickly an algorithm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ested models quickly found root at x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ors T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34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15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41C-Advantage 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41 MATH 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1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17B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19B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28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exp(X) – 3*X^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exp(X) – 3*X^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447920"/>
            <a:ext cx="76964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three zeros, a maxima, and a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quickly an algorithm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P calculators (except HP-48SX) found the same roots for the same initial gu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P-48SX returned root of 3.733079 for initial guess (-1, 4) instead of -0.458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-200 returned of -0.45896 for initial guess of 0, instead of 0.91001 like all other tested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0.1*(exp(X) – exp(3)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01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0.1*(exp(X) – exp(3)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447920"/>
            <a:ext cx="7696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a low slope, root, and then high 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quickly an algorithm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ested calculators quickly found root at x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exp(-X) – exp(-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010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exp(-X) – exp(-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7696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a high slope, root, and shallow 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quickly an algorithm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ested calculators quickly found root at x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12 * exp(-0.5*X) * sin(2*X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12 * exp(-0.5*X) * sin(2*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447920"/>
            <a:ext cx="7696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sine wave and multiple z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quickly an algorithm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HP-48SX differed the most from other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34C, HP-15C, HP-32S, and HP-32SII different in some results from rest of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-200 zoomed in on (valid) root of x = 0 for all inittal guesses. No HP calculator returned 0 as r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12 *exp(-0.5*X^2) * sin(4*X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77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12 *exp(-0.5*X^2) * sin(4*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447920"/>
            <a:ext cx="76964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previous test but with fewer maximum, minima,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quickly an algorithm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48SX give on different root from rest of t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41C MATH ROOT did not find a root for initial gues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-200 differed in 2 roots from rest of t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ors Tested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42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32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32S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3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48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48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49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49G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12 *exp(-.5*X^2) * sin(4*X) +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800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12 *exp(-.5*X^2) * sin(4*X) +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447920"/>
            <a:ext cx="76964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-shifted version of last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most guesses for x &gt;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I-200 was able to find roots for all tested initial gu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alculators returned a root for initial guess of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P calculator returned a root for initial gues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P-28S/42S/19BII and graphics calculators returned a root at initial guess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12 *exp(-.5*X^2) * sin(4*X) +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96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P calculator returned a root for initial guess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ested scientific and graphics calculators returned a root for initial guess of (5, -0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0.005 * (X+5) * (X+3) * (X+1) * (X-5) * (X-3) * (X-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48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0.005 * (X+5) * (X+3) * (X+1) * (X-5) * (X-3) * (X-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447920"/>
            <a:ext cx="7696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multiple zeros, minima, and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48SX and HP-33S differed in one root from rest of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41C MATH ROM missed two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-200 differed in 2 roots from rest of tested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0.1 * (X+5) * (X+3) * (X+1) * (X-5) * (X-3) * (X-1) * exp(-.4 * X^2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0.1 * (X+5) * (X+3) * (X+1) * (X-5) * (X-3) * (X-1) * exp(-.4 * X^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447920"/>
            <a:ext cx="76964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multiple zeros, minima, and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P calculators diverged at initial guess of x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I-200 found a root at initial guess of x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48SX differed by on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-200 differed from HP calculators in roots ret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exp(X) – 3*X^2 + 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0240" y="1943280"/>
            <a:ext cx="7264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exp(X) – 3*X^2 +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447920"/>
            <a:ext cx="76964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a root, maximum, and a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algorithm reacts to guesses near the minimum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I-200 found the root for all tested initial gu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 calculators were trapped by minimum value for most initial gu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exp(X) – 3*X^2 +7.0807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ors Tested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 Voyage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exp(X) – 3*X^2 +7.080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447920"/>
            <a:ext cx="7696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three zeros (two of which are very close), a minimum, and a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which of the two roots a SOLVER fi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-200 differs the most in the roots retu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48SX differs the most from rest of HP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phics models, HP-19BII, and HP-33S differ from rest of models by one roo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0.1*(exp(X) –X^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43000" y="1452600"/>
            <a:ext cx="70102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0.1*(exp(X) –X^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447920"/>
            <a:ext cx="7696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low slope near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I-200 found a root for all tested initial gu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ested HP calculators were trapped by minimum of x = 0.45 for initial guesses of x &lt;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ested HP calculators (except HP-41 MATH ROM) found a root for initial guess of x &gt;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P-41C MATH ROM is least efficient (not really a SOLVER algorith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R implementations seem to have the following linea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 34C, HP-15C, HP-41C Advantage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28S, HP-42S, HP-48G/G+/GX, HP-49G, and HP-49G+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48SX has a somewhat unique implementation of the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32S, HP32SII, and HP-3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-200 uses a superior root exploration algorithm, allowing it to move away from minima and maxima, enabling it to find a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-Calculators use the following algorithm guide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maximum iteration limit and iteration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cant algorithm together with interpolation algorithm as a backu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stom techniques for single-value r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iterating as long as the absolute value of the function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iterating as long as a positive and negative function value are found (good for solving functions like y = sign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iteration of the absolute value of the function does not decrease after a few iterations. The SOLVER algorithm assumes it found a minimum or maximum value or is dealing with a function that has a constan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0 *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447920"/>
            <a:ext cx="7696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zero at any argument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quickly an algorithm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lue of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alculators return minimum value in a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calculators return first number in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5 + 0 *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5 + 0 *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447920"/>
            <a:ext cx="7696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unction with no zero and fixed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quickly an algorithm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models give error 8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28s, 42S, 48/49 family identify constan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32 family display “NO ROOT FOU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calculators display “SOLUTION NOT FOU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SIGN(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2392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= SIGN(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447920"/>
            <a:ext cx="76964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 with speci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quickly an algorithm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P-42S, HP-32S, HP-32SII, HP-33S, HP-48SX, and HP-48GX found root at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P-49G and HP-49G+ found root at small values nea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HP models converged very slowly to th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-200 failed to find ro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05:18:14Z</dcterms:created>
  <dc:creator>Administrator</dc:creator>
  <dc:description/>
  <dc:language>en-US</dc:language>
  <cp:lastModifiedBy>John Dow</cp:lastModifiedBy>
  <dcterms:modified xsi:type="dcterms:W3CDTF">2005-09-19T03:02:24Z</dcterms:modified>
  <cp:revision>30</cp:revision>
  <dc:subject/>
  <dc:title>Root-Seeking Methods</dc:title>
</cp:coreProperties>
</file>